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CA1-4026-4F61-99A1-2E2547CB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212-D55D-4FB2-8AA7-316223B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278-34B7-41D6-9373-01DBE95B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FAC-2B81-4D66-BA49-222EE597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B926-6A24-4DE6-854F-3BD47407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2FCA-947C-4DD1-87E2-BF35F06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5C65-193E-41E6-9C8E-A7D8FE66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50F1-374D-43B7-9312-1453335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513-C78E-4B57-BA16-93AA7A47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9DB-227C-4368-9036-EA8E13EA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6191-4608-4E70-A9DD-6F4679B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EC7-DE01-48E0-B9A0-C44BC9D0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5E26-D764-4DCA-AE71-6D7040F3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EFDC-C0A5-46C5-8A27-B4A6372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4715-A9E5-42ED-87C1-9F208551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6D33-109D-434F-BD22-17B30647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D227-26F4-49F6-97C9-789DEF0D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BDF1-D59B-42F5-B2CF-8B873584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0749-9870-4308-B206-2FB19AD3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C5695-7645-4257-AD5C-11C8EEEB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7B1A-E116-4BC4-99A5-E0F10E41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4B49-C7C8-4345-AE1E-58C5A631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2B3-FFEA-4F51-811B-FA2B80BC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1B77-F50D-4BC5-B141-71A8D71B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BD90-B34E-46B5-9847-108D00E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BFB0-DDE3-468D-863F-291BC32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1B76-83E5-43E7-BA0A-0FFF5CFB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D7B9-91FB-49F0-BB26-48C7AE78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8A2F1-462D-406C-9094-95687C08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6E00-CD4F-4E71-8942-EB747F13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B74D-A80C-4C1C-AB6F-B32E74AD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43DC-3CD0-495D-8326-208F63D0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D758-8F26-41C3-BB57-9F946A11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BAC-F6D7-4A5D-94FF-75115341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7DF3-8D5D-43C9-97B1-9DFDE8CF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8CE4-E3B4-4A28-9AEC-1619B05D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A861F-F1DD-4970-8FE3-9208A5F3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82E00-B709-4878-9CE7-115BC9A2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3913-220D-4F88-8C5E-F5775E96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4895F-C6C4-4C41-AC52-3688DD8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CC10-5D3C-4B88-97E7-66CCA40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903E-11AF-4F03-A0B5-5E43CDD3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EA01-A9E5-4FA7-AE3F-18C9AF8F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F43A-563A-4E04-8D2F-15BD65B2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EDA-394D-483B-8680-750BCD34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5CDA3-5D45-437A-91AC-CBCB7636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1868-D2B0-4A61-B790-DA0E8EB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3F4AF-52AD-4E09-89AF-61448FA6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8676A-D136-4F8C-B1C2-61C83726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C550F-D5AC-4640-B58B-E91CDBC2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E759-F634-4261-8E07-C286A048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40F3-3FED-456E-91CF-1B7BA3BF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BECE8-E043-4FDB-8FCD-4D32CCF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044C-CBF1-41BA-8C11-AE0B5CA2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1F671-2B72-4332-9C53-835AE07B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858-65CD-45BC-8ABF-753E0054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60E7-DF11-4B7D-9BED-3BD5E716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A28-E181-417E-90A9-0C0F8C9A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AF0-4A53-410A-AC77-60A5CEC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1F0-AFB0-4910-99F1-39D1E2B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D2CE-6ADD-479B-959D-7E8BC7F0E61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BF44-2340-4C41-B285-B4D5E123EB3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988B-9631-41A5-B281-D20C27C27B4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86D1-711B-47FC-9B0D-DA189130A13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C9E0-3129-4A00-AF7A-D66679CBD6D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зработка урока развития речи </a:t>
            </a:r>
            <a:br>
              <a:rPr sz="4500"/>
            </a:b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: «Письмо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28760" y="5716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чья средняя общеобразовательная школа №19  г.Пяти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1714680" y="56437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орович Алён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5"/>
          <p:cNvSpPr/>
          <p:nvPr/>
        </p:nvSpPr>
        <p:spPr>
          <a:xfrm>
            <a:off x="250920" y="2060640"/>
            <a:ext cx="2592360" cy="11523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3214800" y="2071800"/>
            <a:ext cx="2592360" cy="11523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285840" y="4429080"/>
            <a:ext cx="2592360" cy="11527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3286080" y="4429080"/>
            <a:ext cx="2592360" cy="11527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>
            <a:off x="6215040" y="4429080"/>
            <a:ext cx="2592360" cy="11527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мож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2857680" y="264312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 flipH="1">
            <a:off x="1499760" y="3286080"/>
            <a:ext cx="3000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928960" y="500076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5857920" y="500076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5924520" y="1920960"/>
            <a:ext cx="2938320" cy="22971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5"/>
          <p:cNvSpPr/>
          <p:nvPr/>
        </p:nvSpPr>
        <p:spPr>
          <a:xfrm>
            <a:off x="357120" y="285840"/>
            <a:ext cx="8429760" cy="114300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, из которых состо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любого в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57120" y="1285560"/>
            <a:ext cx="8429760" cy="514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 и (или) обраще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мя того, кому предназначено письмо.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лая мама! Моя родная, мамочка; милая мама; моя славная труженица!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винение, вопросы, отражающие интерес к жизни адресата, любезности в его адрес, пожела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ложение информации, интересующей адресат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ражение уважения, любви, преданности, формулы проща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ь. Дата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357120" y="214200"/>
            <a:ext cx="8429760" cy="78588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ция пис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539640" y="142884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т, -а, м – Тот, кто получает извещения, телеграммы, письм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С.И.Ожег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т, а, м., одуш. [нем. Adressat]. Лицо, получающее почтовое или телеграфное отправление, получа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нт, а, м., одуш. [нем. Adressant]. Лицо, посылающее почтовое или телеграфное отправление, отправител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Иностранных слов Крыс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57120" y="285840"/>
            <a:ext cx="8429760" cy="8571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о-лекс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0" descr="Картинки по запросу конверты"/>
          <p:cNvPicPr/>
          <p:nvPr/>
        </p:nvPicPr>
        <p:blipFill>
          <a:blip r:embed="rId1"/>
          <a:stretch/>
        </p:blipFill>
        <p:spPr>
          <a:xfrm>
            <a:off x="0" y="1785960"/>
            <a:ext cx="9150480" cy="47862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649440" y="1928880"/>
            <a:ext cx="42861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ванова И.И.                                    Ставропольский край, Советский р-н, г.Зеленокумск, пер.Партизанский, 3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792680" y="3786120"/>
            <a:ext cx="36734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5 «В» классу                          МБОУ КСОШ№19 г.Пятигорска г.Пятигорск, пгт.Горячеводский, ул.Ленина, 25, каб.1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357800" y="5500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57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286000" y="27860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57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0"/>
          <p:cNvSpPr/>
          <p:nvPr/>
        </p:nvSpPr>
        <p:spPr>
          <a:xfrm>
            <a:off x="428760" y="428760"/>
            <a:ext cx="8286480" cy="85716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2"/>
          <p:cNvSpPr/>
          <p:nvPr/>
        </p:nvSpPr>
        <p:spPr>
          <a:xfrm>
            <a:off x="571680" y="42876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заполнения конв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285840" y="5500800"/>
            <a:ext cx="2724120" cy="7905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501040" cy="28573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письмо другу, учителю, любимому литературному герою, фантастическому существу….  Главное, чтобы при написании письма вы учитывали всё то, что узнали на уроке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8" name="Picture 5" descr="http://rus.1september.ru/2005/03/9.gif"/>
          <p:cNvPicPr/>
          <p:nvPr/>
        </p:nvPicPr>
        <p:blipFill>
          <a:blip r:embed="rId1"/>
          <a:stretch/>
        </p:blipFill>
        <p:spPr>
          <a:xfrm>
            <a:off x="2266920" y="3144960"/>
            <a:ext cx="4475160" cy="354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0" y="2552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357120" y="214200"/>
            <a:ext cx="8429760" cy="78588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214280" y="1143000"/>
            <a:ext cx="6400800" cy="4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-720" bIns="46080" anchor="t">
            <a:noAutofit/>
          </a:bodyPr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1500120" y="50004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428760" y="152208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5 класс. Учебник для общеобразовательных учр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Т. Баранов, Т.А. Ладыженская, -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усский язык 5 класс Поурочные планы по учебнику М.Т. Баранов, Т.А. Ладыженская.  Издательство «Учитель» Волгоград 2009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горова Н.В. Поурочные разработки по русскому языку. 5 класс. - 2-е изд., перераб. - М.: ВАКО, 2014. - 41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Журнал «Русский язык в школ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00080" y="1965600"/>
            <a:ext cx="692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историей и особенностями эпистолярного жанра, формировать навыки написания  пись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Овал 4"/>
          <p:cNvSpPr/>
          <p:nvPr/>
        </p:nvSpPr>
        <p:spPr>
          <a:xfrm>
            <a:off x="3286080" y="2786040"/>
            <a:ext cx="2786040" cy="1071720"/>
          </a:xfrm>
          <a:prstGeom prst="ellipse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214200" y="400068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ин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214200" y="314316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214200" y="221472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ьб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642960" y="135720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ш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5143680" y="500040"/>
            <a:ext cx="292860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0"/>
          <p:cNvSpPr/>
          <p:nvPr/>
        </p:nvSpPr>
        <p:spPr>
          <a:xfrm>
            <a:off x="6000840" y="221472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1"/>
          <p:cNvSpPr/>
          <p:nvPr/>
        </p:nvSpPr>
        <p:spPr>
          <a:xfrm>
            <a:off x="6000840" y="314316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2"/>
          <p:cNvSpPr/>
          <p:nvPr/>
        </p:nvSpPr>
        <p:spPr>
          <a:xfrm>
            <a:off x="6000840" y="400068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в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1357200" y="578628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4"/>
          <p:cNvSpPr/>
          <p:nvPr/>
        </p:nvSpPr>
        <p:spPr>
          <a:xfrm>
            <a:off x="5357880" y="492912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1285920" y="50004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6"/>
          <p:cNvSpPr/>
          <p:nvPr/>
        </p:nvSpPr>
        <p:spPr>
          <a:xfrm>
            <a:off x="714240" y="492912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р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ая со стрелкой 29" descr=""/>
          <p:cNvPicPr/>
          <p:nvPr/>
        </p:nvPicPr>
        <p:blipFill>
          <a:blip r:embed="rId1"/>
          <a:stretch/>
        </p:blipFill>
        <p:spPr>
          <a:xfrm>
            <a:off x="3687840" y="969840"/>
            <a:ext cx="981000" cy="175428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ая со стрелкой 31" descr=""/>
          <p:cNvPicPr/>
          <p:nvPr/>
        </p:nvPicPr>
        <p:blipFill>
          <a:blip r:embed="rId2"/>
          <a:stretch/>
        </p:blipFill>
        <p:spPr>
          <a:xfrm>
            <a:off x="3541680" y="4200480"/>
            <a:ext cx="1054080" cy="175572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ая со стрелкой 33" descr=""/>
          <p:cNvPicPr/>
          <p:nvPr/>
        </p:nvPicPr>
        <p:blipFill>
          <a:blip r:embed="rId3"/>
          <a:stretch/>
        </p:blipFill>
        <p:spPr>
          <a:xfrm>
            <a:off x="4986360" y="4121280"/>
            <a:ext cx="1542960" cy="9810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ая со стрелкой 35" descr=""/>
          <p:cNvPicPr/>
          <p:nvPr/>
        </p:nvPicPr>
        <p:blipFill>
          <a:blip r:embed="rId4"/>
          <a:stretch/>
        </p:blipFill>
        <p:spPr>
          <a:xfrm>
            <a:off x="5705640" y="3687840"/>
            <a:ext cx="1109520" cy="4824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ая со стрелкой 38" descr=""/>
          <p:cNvPicPr/>
          <p:nvPr/>
        </p:nvPicPr>
        <p:blipFill>
          <a:blip r:embed="rId5"/>
          <a:stretch/>
        </p:blipFill>
        <p:spPr>
          <a:xfrm>
            <a:off x="5778360" y="3267000"/>
            <a:ext cx="390600" cy="33516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ая со стрелкой 40" descr=""/>
          <p:cNvPicPr/>
          <p:nvPr/>
        </p:nvPicPr>
        <p:blipFill>
          <a:blip r:embed="rId6"/>
          <a:stretch/>
        </p:blipFill>
        <p:spPr>
          <a:xfrm>
            <a:off x="2975040" y="3260880"/>
            <a:ext cx="390600" cy="34128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ая со стрелкой 43" descr=""/>
          <p:cNvPicPr/>
          <p:nvPr/>
        </p:nvPicPr>
        <p:blipFill>
          <a:blip r:embed="rId7"/>
          <a:stretch/>
        </p:blipFill>
        <p:spPr>
          <a:xfrm>
            <a:off x="2614680" y="4121280"/>
            <a:ext cx="1542960" cy="9810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ая со стрелкой 45" descr=""/>
          <p:cNvPicPr/>
          <p:nvPr/>
        </p:nvPicPr>
        <p:blipFill>
          <a:blip r:embed="rId8"/>
          <a:stretch/>
        </p:blipFill>
        <p:spPr>
          <a:xfrm>
            <a:off x="2255760" y="3687840"/>
            <a:ext cx="1182600" cy="4824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 стрелкой 47" descr=""/>
          <p:cNvPicPr/>
          <p:nvPr/>
        </p:nvPicPr>
        <p:blipFill>
          <a:blip r:embed="rId9"/>
          <a:stretch/>
        </p:blipFill>
        <p:spPr>
          <a:xfrm>
            <a:off x="2975040" y="2328840"/>
            <a:ext cx="968400" cy="5475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ая со стрелкой 49" descr=""/>
          <p:cNvPicPr/>
          <p:nvPr/>
        </p:nvPicPr>
        <p:blipFill>
          <a:blip r:embed="rId10"/>
          <a:stretch/>
        </p:blipFill>
        <p:spPr>
          <a:xfrm>
            <a:off x="5413320" y="2328840"/>
            <a:ext cx="755640" cy="62244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ая со стрелкой 51" descr=""/>
          <p:cNvPicPr/>
          <p:nvPr/>
        </p:nvPicPr>
        <p:blipFill>
          <a:blip r:embed="rId11"/>
          <a:stretch/>
        </p:blipFill>
        <p:spPr>
          <a:xfrm>
            <a:off x="3402000" y="1474920"/>
            <a:ext cx="907920" cy="132876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ая со стрелкой 53" descr=""/>
          <p:cNvPicPr/>
          <p:nvPr/>
        </p:nvPicPr>
        <p:blipFill>
          <a:blip r:embed="rId12"/>
          <a:stretch/>
        </p:blipFill>
        <p:spPr>
          <a:xfrm>
            <a:off x="4834080" y="969840"/>
            <a:ext cx="834840" cy="17542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0"/>
          <p:cNvSpPr/>
          <p:nvPr/>
        </p:nvSpPr>
        <p:spPr>
          <a:xfrm>
            <a:off x="4643280" y="578628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ая со стрелкой 34" descr=""/>
          <p:cNvPicPr/>
          <p:nvPr/>
        </p:nvPicPr>
        <p:blipFill>
          <a:blip r:embed="rId13"/>
          <a:stretch/>
        </p:blipFill>
        <p:spPr>
          <a:xfrm>
            <a:off x="4694400" y="4200480"/>
            <a:ext cx="834840" cy="175572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46"/>
          <p:cNvSpPr/>
          <p:nvPr/>
        </p:nvSpPr>
        <p:spPr>
          <a:xfrm>
            <a:off x="5643720" y="135720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ая со стрелкой 52" descr=""/>
          <p:cNvPicPr/>
          <p:nvPr/>
        </p:nvPicPr>
        <p:blipFill>
          <a:blip r:embed="rId14"/>
          <a:stretch/>
        </p:blipFill>
        <p:spPr>
          <a:xfrm>
            <a:off x="5121360" y="1474920"/>
            <a:ext cx="69372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428760" y="1383840"/>
            <a:ext cx="828648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Написанный тек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ылаемый для сообщ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го-нибудь кому-нибу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Умение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истема графических знаков для передачи, запечатления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Манера художе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.И.Ожегов и Н.Ю.Шве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лковый слова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Похожее изображение"/>
          <p:cNvPicPr/>
          <p:nvPr/>
        </p:nvPicPr>
        <p:blipFill>
          <a:blip r:embed="rId1"/>
          <a:stretch/>
        </p:blipFill>
        <p:spPr>
          <a:xfrm>
            <a:off x="4425840" y="1494000"/>
            <a:ext cx="4071960" cy="194436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4853160" y="3828960"/>
            <a:ext cx="3949560" cy="26323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5"/>
          <p:cNvSpPr/>
          <p:nvPr/>
        </p:nvSpPr>
        <p:spPr>
          <a:xfrm>
            <a:off x="357120" y="285840"/>
            <a:ext cx="8429760" cy="8571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о-лекс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3"/>
          <p:cNvSpPr/>
          <p:nvPr/>
        </p:nvSpPr>
        <p:spPr>
          <a:xfrm>
            <a:off x="3643200" y="428760"/>
            <a:ext cx="51436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сто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 epistole– письмо) литературное произведение, обычно в форме письма, где излагаются суждения автора по поводу определенного предм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285840" y="3429000"/>
            <a:ext cx="450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столярный 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итературных произведениях: в форме письма, переписки. Эпистолярный  жанр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столярный   ст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C:\Documents and Settings\Admin\Рабочий стол\письмо\457552.jpg"/>
          <p:cNvPicPr/>
          <p:nvPr/>
        </p:nvPicPr>
        <p:blipFill>
          <a:blip r:embed="rId1"/>
          <a:stretch/>
        </p:blipFill>
        <p:spPr>
          <a:xfrm>
            <a:off x="281160" y="493560"/>
            <a:ext cx="3369960" cy="2054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Admin\Рабочий стол\письмо\depositphotos_126911158-stock-photo-old-paper-letter-feather.jpg"/>
          <p:cNvPicPr/>
          <p:nvPr/>
        </p:nvPicPr>
        <p:blipFill>
          <a:blip r:embed="rId2"/>
          <a:stretch/>
        </p:blipFill>
        <p:spPr>
          <a:xfrm>
            <a:off x="4780080" y="3206880"/>
            <a:ext cx="401004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Овал 4"/>
          <p:cNvSpPr/>
          <p:nvPr/>
        </p:nvSpPr>
        <p:spPr>
          <a:xfrm>
            <a:off x="1428840" y="428760"/>
            <a:ext cx="6143400" cy="1285920"/>
          </a:xfrm>
          <a:prstGeom prst="ellipse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6"/>
          <p:cNvSpPr/>
          <p:nvPr/>
        </p:nvSpPr>
        <p:spPr>
          <a:xfrm>
            <a:off x="5000760" y="4357800"/>
            <a:ext cx="307152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7"/>
          <p:cNvSpPr/>
          <p:nvPr/>
        </p:nvSpPr>
        <p:spPr>
          <a:xfrm>
            <a:off x="928800" y="435780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рав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428760" y="335772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5786280" y="335772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0"/>
          <p:cNvSpPr/>
          <p:nvPr/>
        </p:nvSpPr>
        <p:spPr>
          <a:xfrm>
            <a:off x="6643800" y="2286000"/>
            <a:ext cx="207144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1"/>
          <p:cNvSpPr/>
          <p:nvPr/>
        </p:nvSpPr>
        <p:spPr>
          <a:xfrm>
            <a:off x="3000240" y="535788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 в газ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428760" y="2286000"/>
            <a:ext cx="192852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Прямая со стрелкой 65" descr=""/>
          <p:cNvPicPr/>
          <p:nvPr/>
        </p:nvPicPr>
        <p:blipFill>
          <a:blip r:embed="rId1"/>
          <a:stretch/>
        </p:blipFill>
        <p:spPr>
          <a:xfrm>
            <a:off x="4151160" y="1712880"/>
            <a:ext cx="695520" cy="39625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ая со стрелкой 69" descr=""/>
          <p:cNvPicPr/>
          <p:nvPr/>
        </p:nvPicPr>
        <p:blipFill>
          <a:blip r:embed="rId2"/>
          <a:stretch/>
        </p:blipFill>
        <p:spPr>
          <a:xfrm>
            <a:off x="4602240" y="1695600"/>
            <a:ext cx="3530520" cy="90792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ая со стрелкой 72" descr=""/>
          <p:cNvPicPr/>
          <p:nvPr/>
        </p:nvPicPr>
        <p:blipFill>
          <a:blip r:embed="rId3"/>
          <a:stretch/>
        </p:blipFill>
        <p:spPr>
          <a:xfrm>
            <a:off x="1079640" y="1695600"/>
            <a:ext cx="3247920" cy="90792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ая со стрелкой 74" descr=""/>
          <p:cNvPicPr/>
          <p:nvPr/>
        </p:nvPicPr>
        <p:blipFill>
          <a:blip r:embed="rId4"/>
          <a:stretch/>
        </p:blipFill>
        <p:spPr>
          <a:xfrm>
            <a:off x="3011400" y="1633680"/>
            <a:ext cx="1548000" cy="303516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 стрелкой 76" descr=""/>
          <p:cNvPicPr/>
          <p:nvPr/>
        </p:nvPicPr>
        <p:blipFill>
          <a:blip r:embed="rId5"/>
          <a:stretch/>
        </p:blipFill>
        <p:spPr>
          <a:xfrm>
            <a:off x="4443480" y="1706400"/>
            <a:ext cx="1334880" cy="296244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ая со стрелкой 84" descr=""/>
          <p:cNvPicPr/>
          <p:nvPr/>
        </p:nvPicPr>
        <p:blipFill>
          <a:blip r:embed="rId6"/>
          <a:stretch/>
        </p:blipFill>
        <p:spPr>
          <a:xfrm>
            <a:off x="1725480" y="1627200"/>
            <a:ext cx="2827440" cy="2043000"/>
          </a:xfrm>
          <a:prstGeom prst="rect">
            <a:avLst/>
          </a:prstGeom>
          <a:ln w="0">
            <a:noFill/>
          </a:ln>
        </p:spPr>
      </p:pic>
      <p:pic>
        <p:nvPicPr>
          <p:cNvPr id="279" name="Прямая со стрелкой 88" descr=""/>
          <p:cNvPicPr/>
          <p:nvPr/>
        </p:nvPicPr>
        <p:blipFill>
          <a:blip r:embed="rId7"/>
          <a:stretch/>
        </p:blipFill>
        <p:spPr>
          <a:xfrm>
            <a:off x="4449600" y="1700280"/>
            <a:ext cx="2895840" cy="196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зработка урока развития речи </a:t>
            </a:r>
            <a:br>
              <a:rPr sz="4500"/>
            </a:b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: «Письмо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428760" y="5716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чья средняя общеобразовательная школа №19  г.Пяти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1714680" y="56437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орович Алён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1000080" y="1965600"/>
            <a:ext cx="692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историей и особенностями эпистолярного жанра, формировать навыки написания  пись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5"/>
          <p:cNvSpPr/>
          <p:nvPr/>
        </p:nvSpPr>
        <p:spPr>
          <a:xfrm>
            <a:off x="285840" y="1285920"/>
            <a:ext cx="8429400" cy="50004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писании письма сохраняются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285840" y="3571920"/>
            <a:ext cx="8429400" cy="71424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85840" y="1928880"/>
            <a:ext cx="8429400" cy="15001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285840" y="200016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ьмо может иметь рукописный и напечатанный вариант. Исключения составляют письма, посвященные событиям в личной жизни. Необходимо писать от руки письма-соболезнования, письма-благодарности за приглашение на семейный праздник, письма-поздравления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285840" y="357192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писании писем следует соблюдать грамматические, орфографические, пунктуационные или стилистические н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285840" y="4429080"/>
            <a:ext cx="8429400" cy="10717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285840" y="4572000"/>
            <a:ext cx="84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временном письменном этикете не принято пользоваться корректирующими средствами. Исправлять ошибки – признак дурного 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285840" y="5643720"/>
            <a:ext cx="8429400" cy="10713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285840" y="565344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исьме следует придерживаться абзацев, если есть логически законченные части. Необходимо соблюдать расстояние между строчками и абза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57120" y="285840"/>
            <a:ext cx="8429760" cy="78588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ми оформления пис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5:58:12Z</dcterms:created>
  <dc:creator>WIN7XP</dc:creator>
  <dc:description/>
  <dc:language>en-US</dc:language>
  <cp:lastModifiedBy>Admin</cp:lastModifiedBy>
  <dcterms:modified xsi:type="dcterms:W3CDTF">2018-05-05T18:42:38Z</dcterms:modified>
  <cp:revision>90</cp:revision>
  <dc:subject/>
  <dc:title>Слайд 1</dc:title>
</cp:coreProperties>
</file>